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3.wmf" ContentType="image/x-wmf"/>
  <Override PartName="/ppt/media/image8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11.wmf" ContentType="image/x-wmf"/>
  <Override PartName="/ppt/media/image6.wmf" ContentType="image/x-wmf"/>
  <Override PartName="/ppt/media/image9.wmf" ContentType="image/x-wmf"/>
  <Override PartName="/ppt/media/image23.wmf" ContentType="image/x-wmf"/>
  <Override PartName="/ppt/media/image22.wmf" ContentType="image/x-wmf"/>
  <Override PartName="/ppt/media/image18.jpeg" ContentType="image/jpeg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5.jpeg" ContentType="image/jpeg"/>
  <Override PartName="/ppt/media/image20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0455-DDD3-4344-9C25-0CC30246F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73A2-FB28-4BA7-AE3E-B38C2A60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190E-EF4D-4356-ABA3-B0AE78C80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88D5-B22A-42BB-8D78-7FA2467C3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BBF4-9FBE-4C4B-A452-CDD9480A6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8E66-A43A-4CCC-AFFB-A22956C6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9A2F-1EB3-4CD3-AD97-9FE8ED7F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525D-7FAC-4CC1-835F-D529EB9C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73B9-D4E9-4EC5-AB3A-647EF0D7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A074-E3E5-45D2-89E9-BD49689A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AB66-047C-405D-8FFC-06B0A98E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6267-CC6F-497C-8387-247DFE0A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7683-5B66-4FCF-9603-79B1D208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4EE9-4032-40FB-9B11-E065708D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C9F1-D303-4AF4-8E20-71738B68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E48C-D010-41FE-B5AA-FCA644162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16B4-AEEE-494C-BA93-DB0CB175E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B7B09-D717-4FA3-BE4B-E71B1C6D7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5A06C-3A4D-4ADF-9259-A6E3520F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68EFF-0384-4F06-A512-CB0E1C13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24A1C-40DC-4A90-BDB0-3CFB57B6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B7CA5-B31A-4196-BA5E-778E9988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5015-5632-4F01-90FC-A5C086C4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972E4-FBC2-4AC3-A4F1-31A077D1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82C52-2356-4E9F-8F59-8432EFE3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4005D-F9B9-4752-96BA-6488A754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5D194-3661-4715-8944-D1ED9A66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ACFDA-C0AD-4831-8C69-D1641BA7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EE23C-1003-4223-B7E6-79A30F724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15A2D-6E10-4890-A734-6E6DB1628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AFB0-0306-4FEF-986E-465C1682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21B0-7657-48E7-8DE0-9F60FD36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C8C9-6DFC-4B1D-A3BE-9284F676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2CF4-8EE3-4B5D-9E13-5100D968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5842-5BAC-4BFC-8B3D-9560B413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B575-1D98-45AC-9C2E-F8247A34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4524-E937-4211-A9E7-A4DED3A2A99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4014-0A29-4F42-BB35-9E3B462180F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DC92-2EDE-4F52-910D-0113889D7FD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8000" y="1844640"/>
            <a:ext cx="676944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0000"/>
                </a:solidFill>
                <a:latin typeface="Century Gothic"/>
              </a:rPr>
              <a:t>Posibilidades de Desarrollo del Sector Algodon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268360" y="3645000"/>
            <a:ext cx="5796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entury Gothic"/>
              </a:rPr>
              <a:t>Fernando Cillón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1800" spc="-1" strike="noStrike">
                <a:solidFill>
                  <a:srgbClr val="000000"/>
                </a:solidFill>
                <a:latin typeface="Times New Roman"/>
              </a:rPr>
              <a:t>inform</a:t>
            </a:r>
            <a:r>
              <a:rPr b="1" i="1" lang="es-PE" sz="1800" spc="-1" strike="noStrike">
                <a:solidFill>
                  <a:srgbClr val="ff3300"/>
                </a:solidFill>
                <a:latin typeface="Times New Roman"/>
              </a:rPr>
              <a:t>@</a:t>
            </a:r>
            <a:r>
              <a:rPr b="1" i="1" lang="es-PE" sz="1800" spc="-1" strike="noStrike">
                <a:solidFill>
                  <a:srgbClr val="000000"/>
                </a:solidFill>
                <a:latin typeface="Times New Roman"/>
              </a:rPr>
              <a:t>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65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65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134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des Exportadores</a:t>
            </a:r>
            <a:br>
              <a:rPr sz="15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antidades en millones de T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0" y="1135080"/>
          <a:ext cx="9085320" cy="539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35080"/>
                    <a:ext cx="9085320" cy="53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os FOB Desmotadora</a:t>
            </a:r>
            <a:br>
              <a:rPr sz="26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S$ por QQ Fibr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0" y="1225440"/>
          <a:ext cx="9144000" cy="524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25440"/>
                    <a:ext cx="914400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Importación de Algodón en Valores </a:t>
            </a:r>
            <a:br>
              <a:rPr sz="1900"/>
            </a:b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(Millones de US$ CIF)</a:t>
            </a:r>
            <a:br>
              <a:rPr sz="1900"/>
            </a:b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2000-2004*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3200" y="1461960"/>
          <a:ext cx="890748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" y="1461960"/>
                    <a:ext cx="890748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73512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-35640" y="6173640"/>
            <a:ext cx="2171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(*)Datos al mes de ag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uente: Adu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laboración: inform</a:t>
            </a: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@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763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Volúmenes Importados de Algodón (Miles de TM) </a:t>
            </a:r>
            <a:br>
              <a:rPr sz="2100"/>
            </a:b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2000-2004*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50920" y="1492200"/>
          <a:ext cx="8672400" cy="471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492200"/>
                    <a:ext cx="867240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73512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-35640" y="6173640"/>
            <a:ext cx="2171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(*)Datos al mes de ag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uente: Adu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laboración: inform</a:t>
            </a: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@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Verdana"/>
              </a:rPr>
              <a:t>Comparación Perú vs. Brasi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Productiv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Cos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ado Perú vs. Brasil</a:t>
            </a:r>
            <a:br>
              <a:rPr sz="34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atos en kilos y US$ por H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04840" y="1268280"/>
          <a:ext cx="8759880" cy="532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4840" y="1268280"/>
                    <a:ext cx="8759880" cy="532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itarios Perú vs. Brasil</a:t>
            </a:r>
            <a:br>
              <a:rPr sz="30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ducción en QQ Fibra, Valores en US$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17360" y="1212840"/>
          <a:ext cx="8893440" cy="545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360" y="1212840"/>
                    <a:ext cx="889344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racterísticas del Negocio Algodonero en el Per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76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ltivado por pequeños agricult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cnología baj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stigación en recuper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lexibilizado uso de genética extranje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lidad de fibra bue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os del mercado reconocen cal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116000" y="404640"/>
            <a:ext cx="777240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os internos afectados por subsid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ltivo sensible sin corrección de distorsiones en el Per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ción nacional con tendencia negati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manda local en crecimiento por exportaciones de confec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aciones en crecimien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tencial para incrementar áre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ueva experiencia en el negocio del algod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15640" y="2131560"/>
            <a:ext cx="701028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yecto basado en algod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 la Región Lambaye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ona de Jayan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5220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Verdana"/>
              </a:rPr>
              <a:t>Índi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El algodón en el mun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incipales product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incipales consumi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incipales exporta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Pre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Referencia Brasi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Experiencia algodonera Lambayequ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bjetivo/Premis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993080" cy="39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bra extra larga: Pima o equivalente como Híbri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ividad mínima 80 qq en rama por h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íodo vegetativo 180 días campo limp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sibilidad de cultivo complementar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142640" y="13413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2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lta tecnologí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iego 100% bombeo acep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Área ideal 500 has o má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c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55640" y="46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úsqueda de inversionist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ra de tierra en subasta Proinvers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,200 has ex Plan Piloto Olm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zos perforados 20, 1,000 lt/se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ena pro Dic 2001, entrega Ene 200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urso suministro de riego por gote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99640" y="549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stalación red eléctric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bos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iembra 150 has Feb 200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iembra 300 has Feb 200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ambaye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ima Hazera: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1,400 h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el Cerro: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  800 h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195640" y="49870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50920" y="811080"/>
          <a:ext cx="8789760" cy="566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811080"/>
                    <a:ext cx="8789760" cy="56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2972160" y="157320"/>
            <a:ext cx="33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Resultados por 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133200" y="781200"/>
          <a:ext cx="8863200" cy="569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" y="781200"/>
                    <a:ext cx="8863200" cy="56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539640" y="189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Resultados por 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Calidad de Fib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81160" y="1062000"/>
          <a:ext cx="8699400" cy="533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160" y="1062000"/>
                    <a:ext cx="869940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3000" y="189000"/>
            <a:ext cx="80010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Verdana"/>
              </a:rPr>
              <a:t>Conclus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Algodón: buena alternativa para agro nacional por mercado y áreas extensas. Costa y Selv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oducción nacional de fibra extra larga es fundamental para competitividad de cadena textil y confecciones; somos deficitarios, somos competitiv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endencia estratégica de producción hacia fibras extra largas. Tienen menos distorsiones y tenemos mejores ventajas competitivas, inclusive para exporta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7240" y="40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ercado reconoce calidad y se manifiesta en el preci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El algodón responde bien al uso de alta tecnología, inclusive a la relativa alta inversión de riego por gote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omover y facilitar acceso y uso de tecnología genética mas modern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odernizar la reglamentación del cultivo y de la producción e importación de semill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Reflex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15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000000"/>
                </a:solidFill>
                <a:latin typeface="Verdana"/>
              </a:rPr>
              <a:t>El desarrollo del agro necesita de todos los cultivos y productos que tengan mercado y seamos competitivos, …corrigiendo distorsione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032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rcado Mundial</a:t>
            </a:r>
            <a:br>
              <a:rPr sz="3400"/>
            </a:b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8000" y="1386000"/>
          <a:ext cx="8856720" cy="498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386000"/>
                    <a:ext cx="885672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755640" y="1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7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Verdana"/>
              </a:rPr>
              <a:t>Después de años de distanciamiento entre subsectores del agro, se esta gestando la unión entre los agricultores y los eslabones siguientes de las cade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39280" y="83628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e esta logrando, finalmente, la unidad en el agr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e esta logrando que el agro unido recupere su espacio en todas las esferas: Gobierno, negociaciones internacion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39280" y="146664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Por qué no se ha desarrollado más el sector algodoner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uál es el diagnóstic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1420200" y="549360"/>
            <a:ext cx="59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Verdana"/>
              </a:rPr>
              <a:t>Preguntas Patricia Teullet - COM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Es posible recuperar el cultivo de algodón en el Perú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Somos competitivos en la producción de algodó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uál es nuestro rendimiento y cuál es nuestro costo de producción por hectáre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ómo se compara esto internacionalment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i se decidiera promover el cultivo de algodón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uáles son los mecanismos para hacerl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Qué tipo de cultivos se debe promov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Entre las medidas a adoptar, existe algún tipo de restricción a la importación (aranceles o sobretasas)? Si fuera así. ¿Cómo afecta esto las posibilidades de desarrollo de la industria textil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39280" y="476280"/>
            <a:ext cx="8209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21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Verdana"/>
              </a:rPr>
              <a:t>¿Se puede equilibrar el desarrollo del sector algodonero con el de la industria de textiles y confecciones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1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Verdana"/>
              </a:rPr>
              <a:t>¿Es cierto que el sector textil, para ser competitivo internacionalmente, necesita algodón muy barato y, por tanto, comprarlo subsidiado constituye una ventaja necesario para poder colocar sus productos en el exterio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250920" y="1268280"/>
          <a:ext cx="8731080" cy="5073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268280"/>
                    <a:ext cx="8731080" cy="50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2010600" y="692280"/>
            <a:ext cx="514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roducción Mundial de Algod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17360" y="1619280"/>
          <a:ext cx="8923320" cy="4762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360" y="1619280"/>
                    <a:ext cx="892332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2212200" y="368280"/>
            <a:ext cx="460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articipación del Perú 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Fibras Largas y Extra Lar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hina</a:t>
            </a:r>
            <a:br>
              <a:rPr sz="3400"/>
            </a:b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914400"/>
          <a:ext cx="9158400" cy="576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14400"/>
                    <a:ext cx="9158400" cy="57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stados Unidos</a:t>
            </a:r>
            <a:br>
              <a:rPr sz="34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0" y="987480"/>
          <a:ext cx="9158400" cy="560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87480"/>
                    <a:ext cx="9158400" cy="560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3240" y="43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des Productores</a:t>
            </a:r>
            <a:br>
              <a:rPr sz="30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1031760"/>
          <a:ext cx="9040680" cy="554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31760"/>
                    <a:ext cx="904068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0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des Consumidores</a:t>
            </a:r>
            <a:br>
              <a:rPr sz="30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8680" y="841320"/>
          <a:ext cx="8952120" cy="584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80" y="841320"/>
                    <a:ext cx="8952120" cy="584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02:39:57Z</dcterms:created>
  <dc:creator>ACilloniz</dc:creator>
  <dc:description/>
  <dc:language>en-US</dc:language>
  <cp:lastModifiedBy>PCLARCE</cp:lastModifiedBy>
  <dcterms:modified xsi:type="dcterms:W3CDTF">2004-09-30T22:56:41Z</dcterms:modified>
  <cp:revision>115</cp:revision>
  <dc:subject/>
  <dc:title>Mercado Mundial</dc:title>
</cp:coreProperties>
</file>